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9C9D8-FA9E-4AB2-ABB5-9AF81AB7AFB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00C5-7801-4EE8-B2C5-D04980FDB98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3B22A-470F-4B99-B9D0-D6693D9BC12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254B-DA44-4FAA-9AC5-60FCA16A969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640BA-C3A2-4C23-A404-9E95B9083A0D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0068-F58A-43BC-9B85-85B52AC7153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D79F-7D9A-4AB0-BAB4-0EBBBD05B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0216-A84D-4C93-B68C-0BF85BEC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BA9B-1EB1-4079-BF5A-E04D48C2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6F34-5833-495A-8290-05EC281C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2941-20DE-4FA0-9606-2887A31CF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41AB-4406-459E-884C-FBDAFFFD5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58BE-5FB3-4C35-85D3-3E6CA33C1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61B-BBE3-4E25-82E6-CC17231E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1655-E448-47E9-995A-EF1F613C8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84016-46F2-43FF-B98F-78FBACF1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193-653D-4482-9CAF-B3EC14EA3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6617-CECC-4FB9-908E-9886038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E255-3298-4F79-8C19-5401CC4E300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428480"/>
            <a:ext cx="7772400" cy="321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mniki</a:t>
            </a:r>
            <a:br>
              <a:rPr sz="6000"/>
            </a:br>
            <a:r>
              <a:rPr b="1" lang="pl-PL" sz="4000" spc="-1" strike="noStrike">
                <a:solidFill>
                  <a:srgbClr val="996600"/>
                </a:solidFill>
                <a:latin typeface="Goudy Stout"/>
              </a:rPr>
              <a:t>w</a:t>
            </a: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 </a:t>
            </a:r>
            <a:br>
              <a:rPr sz="6000"/>
            </a:br>
            <a:r>
              <a:rPr b="1" lang="pl-PL" sz="6000" spc="-1" strike="noStrike">
                <a:solidFill>
                  <a:srgbClr val="996600"/>
                </a:solidFill>
                <a:latin typeface="Goudy Stout"/>
              </a:rPr>
              <a:t>Polsce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yrenka Warszawska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Obraz 4" descr="IM000348.JPG"/>
          <p:cNvPicPr/>
          <p:nvPr/>
        </p:nvPicPr>
        <p:blipFill>
          <a:blip r:embed="rId1"/>
          <a:srcRect l="22157" t="0" r="27891" b="0"/>
          <a:stretch/>
        </p:blipFill>
        <p:spPr>
          <a:xfrm>
            <a:off x="571680" y="1214280"/>
            <a:ext cx="3357360" cy="5040360"/>
          </a:xfrm>
          <a:prstGeom prst="rect">
            <a:avLst/>
          </a:prstGeom>
          <a:ln w="0">
            <a:noFill/>
          </a:ln>
        </p:spPr>
      </p:pic>
      <p:sp>
        <p:nvSpPr>
          <p:cNvPr id="51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yrenka Warszawska jest symbolem Warszaw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j pomnik stoi nad brzegiem Wis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ryderyk Chopi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ole tekstowe 3"/>
          <p:cNvSpPr/>
          <p:nvPr/>
        </p:nvSpPr>
        <p:spPr>
          <a:xfrm>
            <a:off x="4714920" y="2500200"/>
            <a:ext cx="3500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ryderyk Chopin był polskim kompozytorem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pianist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Jeden z najbardziej znanych pomników Chopina stoi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Parku Łazienkowskim w Warsza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Obraz 3" descr="szopen.jpg"/>
          <p:cNvPicPr/>
          <p:nvPr/>
        </p:nvPicPr>
        <p:blipFill>
          <a:blip r:embed="rId1"/>
          <a:stretch/>
        </p:blipFill>
        <p:spPr>
          <a:xfrm>
            <a:off x="571680" y="1214280"/>
            <a:ext cx="33508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Fontanna Neptuna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ole tekstowe 3"/>
          <p:cNvSpPr/>
          <p:nvPr/>
        </p:nvSpPr>
        <p:spPr>
          <a:xfrm>
            <a:off x="4714920" y="2500200"/>
            <a:ext cx="350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Fontanna Neptuna jest symbolem Gdańs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zeźba przedstawia boga mórz i oceanów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– Nept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az 6" descr="neptun.jpg"/>
          <p:cNvPicPr/>
          <p:nvPr/>
        </p:nvPicPr>
        <p:blipFill>
          <a:blip r:embed="rId1"/>
          <a:srcRect l="5714" t="0" r="2854" b="0"/>
          <a:stretch/>
        </p:blipFill>
        <p:spPr>
          <a:xfrm>
            <a:off x="571680" y="1214280"/>
            <a:ext cx="3429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13880" y="213840"/>
            <a:ext cx="7929720" cy="10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c00000"/>
                </a:solidFill>
                <a:latin typeface="Calibri"/>
              </a:rPr>
              <a:t>Smok Wawelsk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ole tekstowe 3"/>
          <p:cNvSpPr/>
          <p:nvPr/>
        </p:nvSpPr>
        <p:spPr>
          <a:xfrm>
            <a:off x="4572000" y="1785960"/>
            <a:ext cx="35002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moka Wawelskiego ustawiono na pamiątkę legendy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 smoku, który gnębił krakowian za rządów króla Krak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mnik stoi przed wejściem do Smoczej Jamy, nad Wisłą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w Krakow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Obraz 5" descr="smok1.jpg"/>
          <p:cNvPicPr/>
          <p:nvPr/>
        </p:nvPicPr>
        <p:blipFill>
          <a:blip r:embed="rId1"/>
          <a:srcRect l="9619" t="0" r="2127" b="0"/>
          <a:stretch/>
        </p:blipFill>
        <p:spPr>
          <a:xfrm>
            <a:off x="642960" y="1285920"/>
            <a:ext cx="335772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49640" y="3071520"/>
            <a:ext cx="464328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ffffff"/>
                </a:solidFill>
                <a:latin typeface="Goudy Stout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428840" y="4857480"/>
            <a:ext cx="6215040" cy="92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Prezentację przygotował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 </a:t>
            </a:r>
            <a:r>
              <a:rPr b="1" lang="pl-PL" sz="3000" spc="-1" strike="noStrike">
                <a:solidFill>
                  <a:srgbClr val="663300"/>
                </a:solidFill>
                <a:latin typeface="Calibri"/>
              </a:rPr>
              <a:t>Grażyna Kob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4:07:42Z</dcterms:created>
  <dc:creator>Grazyna</dc:creator>
  <dc:description/>
  <dc:language>en-US</dc:language>
  <cp:lastModifiedBy>Grazyna</cp:lastModifiedBy>
  <dcterms:modified xsi:type="dcterms:W3CDTF">2010-02-16T18:50:41Z</dcterms:modified>
  <cp:revision>22</cp:revision>
  <dc:subject/>
  <dc:title>Slajd 1</dc:title>
</cp:coreProperties>
</file>